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58F0-747D-4CA1-8721-69F56792B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B34A-1C1F-452E-A162-D21D11569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B7EB-957E-48D3-A431-481D7D766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EF06-26B2-4C2F-ABB4-8489FECE4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4D2B6-83F3-49E6-999D-B8A05EE61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B5B5C-18D2-410B-AD6D-A10FF93A7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7AD67-F205-4A81-BC43-850B64683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102C6-2330-45F1-B53D-67CEDA5CE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F0672-CB59-4C38-84F2-F4F3EAB99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790C8-53FA-40F6-B911-722586D9A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BA00E-691E-42A3-80C5-B2C963A1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2FDF-655E-405E-9440-9D2669004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EA478-AABD-4E09-A027-81FE4108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C450C-075D-41DB-A597-49ED938E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B0807-45A5-4448-87BA-C381E499A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0070E-1FBD-46C6-AD7A-475574D6E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9273F-FF88-46C6-9C8D-34258218C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AD71-29E0-4529-9E0A-4AA3ECB36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2D20-994C-44D6-AC45-678337C1C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AD20-B7FB-4075-BE8E-B679A3013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62A0-D1C5-4F02-938D-A19A5FDF9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912E-441C-4B66-BFE4-B581DBFE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7EC6-E10A-4553-A6B6-8CCB78DE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5B9D-AD13-42AE-BA9D-E1ACBF2A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4e75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Eurostile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8A578-8FD8-4ED5-9699-83943B56AEBA}" type="slidenum">
              <a:rPr b="1" lang="en-US" sz="1000" spc="-1" strike="noStrike">
                <a:solidFill>
                  <a:srgbClr val="000000"/>
                </a:solidFill>
                <a:latin typeface="Eurostile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4e75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Eurostile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F073D-D931-47B3-87C0-088F23D5228A}" type="slidenum">
              <a:rPr b="1" lang="en-US" sz="1000" spc="-1" strike="noStrike">
                <a:solidFill>
                  <a:srgbClr val="000000"/>
                </a:solidFill>
                <a:latin typeface="Eurostile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4e75"/>
                </a:solidFill>
                <a:latin typeface="Impact"/>
                <a:ea typeface="굴림"/>
              </a:rPr>
              <a:t>INTRODUCTION </a:t>
            </a:r>
            <a:r>
              <a:rPr b="0" lang="en-US" sz="1800" spc="-1" strike="noStrike">
                <a:solidFill>
                  <a:srgbClr val="274e75"/>
                </a:solidFill>
                <a:latin typeface="Impact"/>
                <a:ea typeface="굴림"/>
              </a:rPr>
              <a:t>(Characteristics</a:t>
            </a:r>
            <a:r>
              <a:rPr b="0" lang="ko-KR" sz="1800" spc="-1" strike="noStrike">
                <a:solidFill>
                  <a:srgbClr val="274e75"/>
                </a:solidFill>
                <a:latin typeface="Impact"/>
                <a:ea typeface="굴림"/>
              </a:rPr>
              <a:t> </a:t>
            </a:r>
            <a:r>
              <a:rPr b="0" lang="en-US" sz="1800" spc="-1" strike="noStrike">
                <a:solidFill>
                  <a:srgbClr val="274e75"/>
                </a:solidFill>
                <a:latin typeface="Impact"/>
                <a:ea typeface="굴림"/>
              </a:rPr>
              <a:t>of Korean)</a:t>
            </a:r>
            <a:endParaRPr b="0" lang="en-US" sz="18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Name of the language</a:t>
            </a:r>
            <a:r>
              <a:rPr b="0" lang="en-US" sz="2400" spc="-1" strike="noStrike">
                <a:solidFill>
                  <a:srgbClr val="000000"/>
                </a:solidFill>
                <a:latin typeface="Berlin Sans FB"/>
                <a:ea typeface="굴림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Korean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International name following the country name  using this language; they are Republic of Korea (south) and People’s Republic of Korea (north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Hangugeo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(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한국어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): After the name, Hangug (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한국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), by which ROK people calls their own country. ‘Eo (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어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)’ means language.  Often called simply Gugeo (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국어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).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Joseonmal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(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조선말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): Following the name Joseon (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조선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), by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which PRK people calls theit own country.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Goryeoeo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(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고려어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): The Korean used among the Korean people, Goryeoin (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고려인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) in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the old USSR region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People who speaks Korean</a:t>
            </a:r>
            <a:r>
              <a:rPr b="0" lang="en-US" sz="2400" spc="-1" strike="noStrike">
                <a:solidFill>
                  <a:srgbClr val="000000"/>
                </a:solidFill>
                <a:latin typeface="Berlin Sans FB"/>
                <a:ea typeface="굴림"/>
              </a:rPr>
              <a:t>: ca. 78 million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ROK, PRK (the native language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Yanbian Korean Autonomous Prefecture in People's Republic of China (official language with Chinese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Other immigrant societies in Central Asia, Japan, USA etc.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324000" y="692280"/>
            <a:ext cx="8732520" cy="3832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6208560" y="3789360"/>
            <a:ext cx="2857680" cy="299088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3"/>
          <p:cNvSpPr/>
          <p:nvPr/>
        </p:nvSpPr>
        <p:spPr>
          <a:xfrm>
            <a:off x="7020000" y="1628640"/>
            <a:ext cx="504720" cy="505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직선 연결선 5"/>
          <p:cNvSpPr/>
          <p:nvPr/>
        </p:nvSpPr>
        <p:spPr>
          <a:xfrm flipH="1">
            <a:off x="6208560" y="2133720"/>
            <a:ext cx="81144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직선 연결선 7"/>
          <p:cNvSpPr/>
          <p:nvPr/>
        </p:nvSpPr>
        <p:spPr>
          <a:xfrm>
            <a:off x="7524720" y="2133720"/>
            <a:ext cx="153180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Box 8"/>
          <p:cNvSpPr/>
          <p:nvPr/>
        </p:nvSpPr>
        <p:spPr>
          <a:xfrm>
            <a:off x="53640" y="4643280"/>
            <a:ext cx="49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lin Sans FB"/>
                <a:ea typeface="굴림"/>
              </a:rPr>
              <a:t>Distribution of Korean-speaking popu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9"/>
          <p:cNvSpPr/>
          <p:nvPr/>
        </p:nvSpPr>
        <p:spPr>
          <a:xfrm>
            <a:off x="5292720" y="6021360"/>
            <a:ext cx="266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erlin Sans FB"/>
                <a:ea typeface="굴림"/>
              </a:rPr>
              <a:t>Kor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erlin Sans FB"/>
                <a:ea typeface="굴림"/>
              </a:rPr>
              <a:t>dialec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직사각형 10"/>
          <p:cNvSpPr/>
          <p:nvPr/>
        </p:nvSpPr>
        <p:spPr>
          <a:xfrm>
            <a:off x="574560" y="63072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From http://en.wikipedia.org/wiki/Korean_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Classification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Isolated? (Song, 2005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Altaic? (Ramstedt, 1928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Writing</a:t>
            </a:r>
            <a:r>
              <a:rPr b="0" lang="ko-KR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system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Hangul – a phonogram (&lt;--&gt; ideogram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Sounds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Allophones: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숨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낫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Morphophonemics: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은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는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을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를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이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가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Linking: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맞이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마지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Others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Grammar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Agglutinative  language – most words are formed by joining morphemes;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가다 </a:t>
            </a:r>
            <a:r>
              <a:rPr b="0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간다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갔다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갈까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?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가라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Structure of S + O or C + V;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나는 당신을 좋아합니다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Speech levels &amp; honorifics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존댓말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from inferior) &lt;-&gt;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반말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from superior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먹다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erlin Sans F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Berlin Sans FB"/>
                <a:ea typeface="굴림"/>
              </a:rPr>
              <a:t>먹어라</a:t>
            </a:r>
            <a:endParaRPr b="1" lang="en-US" sz="1800" spc="-1" strike="noStrike">
              <a:solidFill>
                <a:srgbClr val="000000"/>
              </a:solidFill>
              <a:latin typeface="Eurostil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erlin Sans F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Berlin Sans FB"/>
                <a:ea typeface="굴림"/>
              </a:rPr>
              <a:t>먹어요</a:t>
            </a:r>
            <a:endParaRPr b="1" lang="en-US" sz="1800" spc="-1" strike="noStrike">
              <a:solidFill>
                <a:srgbClr val="000000"/>
              </a:solidFill>
              <a:latin typeface="Eurostil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erlin Sans F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Berlin Sans FB"/>
                <a:ea typeface="굴림"/>
              </a:rPr>
              <a:t>먹으세요</a:t>
            </a:r>
            <a:endParaRPr b="1" lang="en-US" sz="1800" spc="-1" strike="noStrike">
              <a:solidFill>
                <a:srgbClr val="000000"/>
              </a:solidFill>
              <a:latin typeface="Eurostil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erlin Sans F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Berlin Sans FB"/>
                <a:ea typeface="굴림"/>
              </a:rPr>
              <a:t>드세요</a:t>
            </a:r>
            <a:endParaRPr b="1" lang="en-US" sz="18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4e75"/>
                </a:solidFill>
                <a:latin typeface="Impact"/>
                <a:ea typeface="굴림"/>
              </a:rPr>
              <a:t>REPUBLIC OF KOREA </a:t>
            </a:r>
            <a:r>
              <a:rPr b="0" lang="en-US" sz="1800" spc="-1" strike="noStrike">
                <a:solidFill>
                  <a:srgbClr val="274e75"/>
                </a:solidFill>
                <a:latin typeface="Impact"/>
                <a:ea typeface="굴림"/>
              </a:rPr>
              <a:t>(</a:t>
            </a:r>
            <a:r>
              <a:rPr b="0" lang="ko-KR" sz="1800" spc="-1" strike="noStrike">
                <a:solidFill>
                  <a:srgbClr val="274e75"/>
                </a:solidFill>
                <a:latin typeface="Impact"/>
                <a:ea typeface="굴림"/>
              </a:rPr>
              <a:t>대한민국</a:t>
            </a:r>
            <a:r>
              <a:rPr b="0" lang="en-US" sz="1800" spc="-1" strike="noStrike">
                <a:solidFill>
                  <a:srgbClr val="274e75"/>
                </a:solidFill>
                <a:latin typeface="Impact"/>
                <a:ea typeface="굴림"/>
              </a:rPr>
              <a:t>)</a:t>
            </a:r>
            <a:endParaRPr b="0" lang="en-US" sz="18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General</a:t>
            </a:r>
            <a:r>
              <a:rPr b="0" lang="en-US" sz="2400" spc="-1" strike="noStrike">
                <a:solidFill>
                  <a:srgbClr val="000000"/>
                </a:solidFill>
                <a:latin typeface="Berlin Sans FB"/>
                <a:ea typeface="굴림"/>
              </a:rPr>
              <a:t> :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Area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100,210 k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Berlin Sans FB"/>
                <a:ea typeface="굴림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(38,691 m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Berlin Sans FB"/>
                <a:ea typeface="굴림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) (3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Berlin Sans FB"/>
                <a:ea typeface="굴림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en-US" sz="2000" spc="-1" strike="noStrike" baseline="30000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about 1/100 of USA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Population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50 million (2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Berlin Sans FB"/>
                <a:ea typeface="굴림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about 1/6 of USA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GDP (nominal)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$1.163 trillion (1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Berlin Sans FB"/>
                <a:ea typeface="굴림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1/15 of USA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Capital: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Seoul (9.8 million inhabitants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Ethnic groups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Korean (&gt;99%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Religions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Buddhism (23%), Protestant (18%), Catholic (11%), Others (1%), No religion (47%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Geography &amp; Climates</a:t>
            </a:r>
            <a:r>
              <a:rPr b="0" lang="en-US" sz="2400" spc="-1" strike="noStrike">
                <a:solidFill>
                  <a:srgbClr val="000000"/>
                </a:solidFill>
                <a:latin typeface="Berlin Sans FB"/>
                <a:ea typeface="굴림"/>
              </a:rPr>
              <a:t>: 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Peninsula surrounded by Yellow, East, and South (Pacific) Sea 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Mountainous (&gt;70%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Humid continental to humid subtropical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Distinct four seasons with stormy summer.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612720" y="479520"/>
            <a:ext cx="2809800" cy="5257800"/>
          </a:xfrm>
          <a:prstGeom prst="rect">
            <a:avLst/>
          </a:prstGeom>
          <a:ln w="0">
            <a:noFill/>
          </a:ln>
        </p:spPr>
      </p:pic>
      <p:sp>
        <p:nvSpPr>
          <p:cNvPr id="97" name="직사각형 3"/>
          <p:cNvSpPr/>
          <p:nvPr/>
        </p:nvSpPr>
        <p:spPr>
          <a:xfrm>
            <a:off x="263520" y="5877000"/>
            <a:ext cx="351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굴림"/>
              </a:rPr>
              <a:t>http://www.newworldencyclopedia.org/entry/Korean_Peninsu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3635280" y="479520"/>
            <a:ext cx="3969000" cy="2903400"/>
          </a:xfrm>
          <a:prstGeom prst="rect">
            <a:avLst/>
          </a:prstGeom>
          <a:ln w="0">
            <a:noFill/>
          </a:ln>
        </p:spPr>
      </p:pic>
      <p:sp>
        <p:nvSpPr>
          <p:cNvPr id="99" name="직사각형 4"/>
          <p:cNvSpPr/>
          <p:nvPr/>
        </p:nvSpPr>
        <p:spPr>
          <a:xfrm>
            <a:off x="7746840" y="549360"/>
            <a:ext cx="111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굴림"/>
              </a:rPr>
              <a:t>kgreenpeopl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3"/>
          <a:stretch/>
        </p:blipFill>
        <p:spPr>
          <a:xfrm>
            <a:off x="3819600" y="350028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101" name="직사각형 5"/>
          <p:cNvSpPr/>
          <p:nvPr/>
        </p:nvSpPr>
        <p:spPr>
          <a:xfrm>
            <a:off x="2916360" y="6378480"/>
            <a:ext cx="518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굴림"/>
              </a:rPr>
              <a:t>http://blog.joinsmsn.com/media/folderListSlide.asp?uid=drjhoon&amp;folder=42&amp;list_id=106447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4270320" cy="244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4694400" y="476280"/>
            <a:ext cx="4279680" cy="2808360"/>
          </a:xfrm>
          <a:prstGeom prst="rect">
            <a:avLst/>
          </a:prstGeom>
          <a:ln w="0">
            <a:noFill/>
          </a:ln>
        </p:spPr>
      </p:pic>
      <p:sp>
        <p:nvSpPr>
          <p:cNvPr id="104" name="TextBox 1"/>
          <p:cNvSpPr/>
          <p:nvPr/>
        </p:nvSpPr>
        <p:spPr>
          <a:xfrm>
            <a:off x="402120" y="603900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Seoul, Ko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3"/>
          <a:stretch/>
        </p:blipFill>
        <p:spPr>
          <a:xfrm>
            <a:off x="282600" y="3086280"/>
            <a:ext cx="4238640" cy="2806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4"/>
          <a:stretch/>
        </p:blipFill>
        <p:spPr>
          <a:xfrm>
            <a:off x="4694400" y="3433680"/>
            <a:ext cx="4324320" cy="2227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Industries</a:t>
            </a:r>
            <a:r>
              <a:rPr b="0" lang="en-US" sz="2400" spc="-1" strike="noStrike">
                <a:solidFill>
                  <a:srgbClr val="000000"/>
                </a:solidFill>
                <a:latin typeface="Berlin Sans FB"/>
                <a:ea typeface="굴림"/>
              </a:rPr>
              <a:t> :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Information Technology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Samsung, Hyundai, SK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Electronics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Samsung, LG, Daewoo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Automobiles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Hyundai, KIA, GM Daewoo, Reno Samsung, Ssangyong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Shipbuilding: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Hyundai, Hanjin, Daewoo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Steel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POSKO, Hyundai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Chemicals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SK, Yukong, KCC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Others</a:t>
            </a:r>
            <a:r>
              <a:rPr b="0" lang="en-US" sz="2400" spc="-1" strike="noStrike">
                <a:solidFill>
                  <a:srgbClr val="000000"/>
                </a:solidFill>
                <a:latin typeface="Berlin Sans FB"/>
                <a:ea typeface="굴림"/>
              </a:rPr>
              <a:t> :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10 UNESCO World heritage sites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Home of Taekwondo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Truce with North Korea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Baseball &amp; soccer are the nationwide popular sports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Foods &amp; drinks of her own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jyu</cp:lastModifiedBy>
  <dcterms:modified xsi:type="dcterms:W3CDTF">2012-08-09T01:22:41Z</dcterms:modified>
  <cp:revision>31</cp:revision>
  <dc:subject/>
  <dc:title>KOREAN LANGUAGE</dc:title>
</cp:coreProperties>
</file>